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EFA0-79C2-4589-8B96-E5861B20F9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 Access w wersji 1.0 pojawił się w roku 1992. Wersja ta oraz kolejna 1.1 były programami samodzielny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oku 1994 Access stał sie składnikiem pakietu Office (wersja 4.X). Kolejne wersje to Access 95 i 97 bedace składnik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kietów Office o takich samych oznaczeni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 Access w wersji 1.0 pojawił się w roku 1992. Wersja ta oraz kolejna 1.1 były programami samodzielny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oku 1994 Access stał sie składnikiem pakietu Office (wersja 4.X). Kolejne wersje to Access 95 i 97 bedace składnik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kietów Office o takich samych oznaczeni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7BC-350A-4746-9902-0A30E157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B72-88A0-4013-8CA8-4008AD92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658-FFF3-41DB-BB4A-661EB8D5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31B-AE46-489B-89B9-6BE0ED7A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88E-D22C-4649-AF95-5DC2CCFD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6E7-6160-4743-9350-38275BC7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F1B-C4BA-4F38-996A-3080A98F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9D9-B5CE-48F1-8371-C1DE434A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EFA-4642-4700-8707-B59CD92D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AF7-BFDE-4A35-9476-E2376A2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66E-A104-4CDD-B041-B405B080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F0C-B12B-4762-8D97-FA9D157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26DD-388D-48A1-ABAE-EA105BD74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30200" y="2716200"/>
            <a:ext cx="6157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lacyjne bazy dan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30560" y="4292640"/>
            <a:ext cx="6157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adomości podstaw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30560" y="5433840"/>
            <a:ext cx="6157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Verdana"/>
              </a:rPr>
              <a:t>Wydział Geologii, Geofizyki i Ochrony Środowiska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Verdana"/>
              </a:rPr>
              <a:t>Katedra Geologii Ogólnej, Ochrony Środowiska i Geoturystyki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Verdana"/>
              </a:rPr>
              <a:t>Kraków, 2011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a relacyjnych baz da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1628640"/>
            <a:ext cx="698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związku z koniecznością odwołań, istnieje potrzeba obecności jednej lub większej liczby kolumn niepowtarzalnych w granicach całej tabeli, pozwalających odnaleźć konkretny wiersz. Kolumny te określa się jako "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lucz podstawow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" (ang.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tabe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ję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1628640"/>
            <a:ext cx="698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e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odstawowe obiekty bazy danych w programie Access służące do przechowywania danych. Składają się one z wierszy (rekordów) i kolumn (pó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7554960" cy="1947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" y="4240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ko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8520" y="29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ję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628640"/>
            <a:ext cx="698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lacj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skojarzenie ustanowione miedzy wspólnymi polami (kolumnami) w dwóch tabelach. Relacja może być typu „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jeden-do-jedneg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”, „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jeden-do-wiel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” lub „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wiele-do-wiel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”. Relacja działa poprzez dopasowywanie danych w polach kluc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Baza Danych"/>
          <p:cNvPicPr/>
          <p:nvPr/>
        </p:nvPicPr>
        <p:blipFill>
          <a:blip r:embed="rId2"/>
          <a:stretch/>
        </p:blipFill>
        <p:spPr>
          <a:xfrm>
            <a:off x="1619280" y="3284640"/>
            <a:ext cx="6324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ję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628640"/>
            <a:ext cx="6983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ucz podstawow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jedno lub większa liczba pól (kolumn), których wartości jednoznacznie identyfikują każdy rekord w tabeli. Klucz podstawowy służy do wiązania tabeli z kluczami obcymi w innych tabel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ucz obc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jedno lub większa liczba pól tabeli (kolumn), które odwołują się do pola lub pól klucza podstawowego w innej tabeli. Klucz obcy wskazuje, w jaki sposób tabele są powiąz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03640" y="3860640"/>
            <a:ext cx="3276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ję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1628640"/>
            <a:ext cx="698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werend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wyrażone w formalnym języku „zapytania” do bazy danych, które – zależnie od typu – mogą wyświetlać określone dane, modyfikować je, tworzyć lub usuwać. Kwerendy pozwalają automatyzować operacje na bazach da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ję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1628640"/>
            <a:ext cx="69832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ormularz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elementy interfejsu SZBD, za pomocą których użytkownik może przeglądać i modyfikować przechowywane w tabelach dane, uruchamiać raporty czy wykonywać zadania administracyj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aport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pozwalają na wyświetlanie oraz drukowanie sformatowanych danych wraz z obliczeniami oraz podsumowani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ron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pozwalają na publikowanie interaktywnych formularzy w sieci lokaln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akr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Makropolecenia) – grupy poleceń, które mogą zostać automatycznie wykonane jak jedna instrukc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duł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pozwalają na tworzenie programów w języku VBA (Visual Basic for Application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woluc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2060640"/>
          <a:ext cx="8640720" cy="381636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1079640"/>
                <a:gridCol w="1081080"/>
                <a:gridCol w="1079280"/>
                <a:gridCol w="1081080"/>
                <a:gridCol w="1077840"/>
                <a:gridCol w="10810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Acc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Acc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Windows 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Access 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Access 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Acc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Access 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Access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805880" y="5187960"/>
            <a:ext cx="955440" cy="500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12000" y="3716280"/>
            <a:ext cx="96516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719760" y="5189400"/>
            <a:ext cx="963720" cy="50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92600" y="3860640"/>
            <a:ext cx="1046160" cy="1046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332000" y="5157720"/>
            <a:ext cx="936360" cy="569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3492360" y="3860640"/>
            <a:ext cx="993960" cy="100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492360" y="515772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4572000" y="5157720"/>
            <a:ext cx="936720" cy="57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2411280" y="5157720"/>
            <a:ext cx="936720" cy="53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6732720" y="3789360"/>
            <a:ext cx="936360" cy="927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4572000" y="3789360"/>
            <a:ext cx="887400" cy="10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324000" y="3789360"/>
            <a:ext cx="826920" cy="115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4"/>
          <a:stretch/>
        </p:blipFill>
        <p:spPr>
          <a:xfrm>
            <a:off x="5724360" y="5157720"/>
            <a:ext cx="792360" cy="62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5"/>
          <a:stretch/>
        </p:blipFill>
        <p:spPr>
          <a:xfrm>
            <a:off x="2484360" y="3789360"/>
            <a:ext cx="89388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1332000" y="3789360"/>
            <a:ext cx="9223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wolucja formató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1628640"/>
            <a:ext cx="6983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wolucji uległ też format zapisu danych przez MS Access. Do wersji 2003 włącznie domyślnym rozszerzeniem plików baz danych było .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db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W wersji 2007 pliki domyślnie zapisywane są z rozszerzeniem .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ccdb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ccess 2007 zachował oczywiście kompatybilność wstecz, czyli może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nim otworzyć i edytować pliki utworzone w starszych wersjach programu, możemy także nowym plikom nadawać rozszerzenie .mdb (zaleca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prócz plików z tymi rozszerzeniami Access obsługuje także następujące formaty plikó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mde – Zabezpieczona baza danych z makrami (wersja 2003 i wczesniejs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mam – Makro Acc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maq – Kwerenda Acc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mar – Raport Acc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mat – Tabela Acc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maf – Formularz Acc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adp – Projekt Acc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adn – Szablon pustego projektu Acce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S Access w pakiecie Office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551664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System Zarzadzania Bazami Danych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MS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7043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aza Da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2014560"/>
            <a:ext cx="68421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Baza danych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to zbiór informacji i obiektów dotyczących określonego tematu czy zastosowania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 organizowania danych w bazach, ich dodawania, modyfikacji, prezentacji czy usuwania niezbędny jest: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System Zarzadzania Bazami Danych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(SZBD)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(ang. 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DataBase Management System – DBMS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a relacyjnych baz da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2014560"/>
            <a:ext cx="68421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bazach relacyjnych wiele tablic danych może współpracować ze sobą (są ze sobą powiązane). 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azy relacyjne posiadają wewnętrzne języki programowania, wykorzystujące zwykle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SQL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(ang. 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Structured Query Language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) do operowania na danych, za pomocą których tworzone są zaawansowane funkcje obsługi da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a relacyjnych baz da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014560"/>
            <a:ext cx="68421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lacyjne bazy danych oraz przeznaczony dla nich standard SQL oparte są na kilku prostych zasadach: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278136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zystkie wartości danych oparte są na prostych typach 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y danych w 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700280"/>
            <a:ext cx="84247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Typ danych </a:t>
            </a: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Typ przechowywanych danych </a:t>
            </a: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Rozmiar przechowywanych danych</a:t>
            </a: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Tekst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Znaki alfanumeryczne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0-255 znaków</a:t>
            </a: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Znaki alfanumeryczne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0-65536 znaków</a:t>
            </a: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Liczba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artości liczbowe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Bajt: liczby całkowite 0-255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Dziesiętne: -1028 – 1 do 1028 – 1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Liczba całkowita: -32 768 do 32767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Liczba całkowita długa: -2 147 483 648 do 2 147 483 647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Pojedyncza precyzja: 3,402823e</a:t>
            </a:r>
            <a:r>
              <a:rPr b="0" lang="pl-PL" sz="1000" spc="-1" strike="noStrike" baseline="30000">
                <a:solidFill>
                  <a:srgbClr val="000000"/>
                </a:solidFill>
                <a:latin typeface="Verdana"/>
              </a:rPr>
              <a:t>38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do -1,401298e</a:t>
            </a:r>
            <a:r>
              <a:rPr b="0" lang="pl-PL" sz="1000" spc="-1" strike="noStrike" baseline="30000">
                <a:solidFill>
                  <a:srgbClr val="000000"/>
                </a:solidFill>
                <a:latin typeface="Verdana"/>
              </a:rPr>
              <a:t>-45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Podwójna precyzja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- liczby ujemne: -1,79769313486231e</a:t>
            </a:r>
            <a:r>
              <a:rPr b="0" lang="pl-PL" sz="1000" spc="-1" strike="noStrike" baseline="30000">
                <a:solidFill>
                  <a:srgbClr val="000000"/>
                </a:solidFill>
                <a:latin typeface="Verdana"/>
              </a:rPr>
              <a:t>308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                   do -4,94065645841247e</a:t>
            </a:r>
            <a:r>
              <a:rPr b="0" lang="pl-PL" sz="1000" spc="-1" strike="noStrike" baseline="30000">
                <a:solidFill>
                  <a:srgbClr val="000000"/>
                </a:solidFill>
                <a:latin typeface="Verdana"/>
              </a:rPr>
              <a:t>-324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- liczby dodatnie: 4,94065645841247e</a:t>
            </a:r>
            <a:r>
              <a:rPr b="0" lang="pl-PL" sz="1000" spc="-1" strike="noStrike" baseline="30000">
                <a:solidFill>
                  <a:srgbClr val="000000"/>
                </a:solidFill>
                <a:latin typeface="Verdana"/>
              </a:rPr>
              <a:t>-324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do  1,79769313486231e</a:t>
            </a:r>
            <a:r>
              <a:rPr b="0" lang="pl-PL" sz="1000" spc="-1" strike="noStrike" baseline="30000">
                <a:solidFill>
                  <a:srgbClr val="000000"/>
                </a:solidFill>
                <a:latin typeface="Verdana"/>
              </a:rPr>
              <a:t>308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Replication Id:16-bajtowa, unikatowa w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skali globalnej liczba szesnastkowa</a:t>
            </a: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Data/Godzina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Data oraz czas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8 bajtów</a:t>
            </a: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Walutowy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artości pieniężne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8 bajtów</a:t>
            </a: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Autonumerowanie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Liczba inkrementowana o 1 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4 bajty, 16 bajtów dla identyfikatora replikacji (GUID)</a:t>
            </a: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Tak/Nie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artości logiczne: Tak/Nie, Prawda/Fałsz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1 bit (0 lub -1)</a:t>
            </a: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Obiekt OLE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Zdjęcia, rysunki, dźwięki, pliki filmowe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Do 1 GB (oraz ograniczenie wielkością dysku)</a:t>
            </a: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Hiperłącze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Łącze do zasobu internetowego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0-64000 znaków</a:t>
            </a:r>
            <a:br>
              <a:rPr sz="10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Verdana"/>
              </a:rPr>
              <a:t>Kreator odnośników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yświetla dane z innej tabeli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Ogólnie 4 baj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a relacyjnych baz da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557360"/>
            <a:ext cx="698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ystkie dane w bazie relacyjnej przedstawiane są w formie dwuwymiarowych tabel w matematycznym żargonie noszących nazwę "relacji"). Każda tabela zawiera zero lub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cej wierszy (zwanych „rekordami") i jedną lub więcej kolumn ("atrybutów"). Na każdy wiersz składają się jednakowo ułożone kolumny wypełnione wartościami, które z kolei w każdym wierszu mogą być i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7554960" cy="194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76920" y="3736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rybu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800" y="4221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a relacyjnych baz da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1628640"/>
            <a:ext cx="698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wprowadzeniu danych do bazy, możliwe jest porównywanie wartości z różnych kolumn, zazwyczaj również z różnych tabel, i scalanie wierszy, gdy pochodzące z nich wartości s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godne. Umożliwia to wiązanie danych i wykonywanie stosunkowo złożonych operacji w granicach całej bazy 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0560" y="1006560"/>
            <a:ext cx="6842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a relacyjnych baz da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628640"/>
            <a:ext cx="698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zystkie operacje wykonywane są w oparciu o algebrę relacji, bez względu na położenie wiersza tabeli. Wiersze w relacyjnej bazie danych przechowywane są w porządku zupełn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olnym - nie musi on odzwierciedlać ani kolejności ich wprowadzania, ani kolejności ich przechowy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2:45:04Z</dcterms:created>
  <dc:creator>Piotrek Bobiński</dc:creator>
  <dc:description/>
  <dc:language>en-US</dc:language>
  <cp:lastModifiedBy>Tomasz Bartuś</cp:lastModifiedBy>
  <dcterms:modified xsi:type="dcterms:W3CDTF">2012-01-03T08:16:20Z</dcterms:modified>
  <cp:revision>25</cp:revision>
  <dc:subject/>
  <dc:title>Slajd 1</dc:title>
</cp:coreProperties>
</file>