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F62-E6EB-47AF-A351-A9E18F78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AD0-2623-46EF-ACBA-270E38B7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552-1ADD-4005-9876-A2EDBFAE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081-D196-4C4D-98C4-4588BAF2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7CF5-08EB-49AC-8B46-C4EDEC1C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7D2C-AA05-4A7C-99A8-C6C1D625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E26A-8061-4E84-A5E5-0E3D51E0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F1BE-E524-4D3F-9C94-20AF807E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5E53-53E0-4BD4-BDCD-5DA585A8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A874-0CAB-4079-9D73-13F77315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B62F-75C5-4DEC-B6C3-92B99DD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FF4-CDDB-4433-8986-72126470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4C31-FDB5-48B0-B4CF-A07608A5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3DF5-7DC4-4FBB-A223-14639CA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8765-5FF3-41B3-87DD-34A634F9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9377-8CF4-445E-9009-F5182AF2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9C83-0E62-4E01-B19C-02F6F79B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9AC-5EDD-45E4-8438-13B66D77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53E-A24F-4B18-9897-D76D1007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F43-9C72-4B4D-9897-3FBCD1C2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13E-DCE7-42BB-A9AB-64F4666F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428-0937-455B-AA60-725ED799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FCD-E098-49E9-915C-2BCB098C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AC1-B33B-4758-9303-15F6E49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E854-801F-4B38-9833-63C253BED9A1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1079-B317-4841-8C0B-024A21755CE2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 u="sng">
                <a:solidFill>
                  <a:srgbClr val="003366"/>
                </a:solidFill>
                <a:uFillTx/>
                <a:latin typeface="Arial"/>
              </a:rPr>
              <a:t>StrikeReset</a:t>
            </a:r>
            <a:r>
              <a:rPr b="1" lang="pl-PL" sz="3600" spc="-1" strike="noStrike">
                <a:solidFill>
                  <a:srgbClr val="003366"/>
                </a:solidFill>
                <a:latin typeface="Arial"/>
              </a:rPr>
              <a:t> Op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66"/>
                </a:solidFill>
                <a:latin typeface="Arial"/>
              </a:rPr>
              <a:t>Michał Ptasz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66"/>
                </a:solidFill>
                <a:latin typeface="Arial"/>
              </a:rPr>
              <a:t>Mateusz Zakrzewsk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Wycena drzewem dwumianowy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ycena za pomocą drzewa dwumianowego prowadzi do następującego wzoru na cenę opcji call typu StrikeRese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83152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Zakończenie</a:t>
            </a:r>
            <a:br>
              <a:rPr sz="3600"/>
            </a:br>
            <a:r>
              <a:rPr b="1" lang="pl-PL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3809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3366"/>
                </a:solidFill>
                <a:latin typeface="Arial"/>
              </a:rPr>
              <a:t>KONIEC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6666"/>
                </a:solidFill>
                <a:latin typeface="Arial"/>
              </a:rPr>
              <a:t>Geneza </a:t>
            </a:r>
            <a:r>
              <a:rPr b="1" i="1" lang="pl-PL" sz="3600" spc="-1" strike="noStrike">
                <a:solidFill>
                  <a:srgbClr val="006666"/>
                </a:solidFill>
                <a:latin typeface="Arial"/>
              </a:rPr>
              <a:t>StrikeReset</a:t>
            </a:r>
            <a:br>
              <a:rPr sz="3600"/>
            </a:br>
            <a:r>
              <a:rPr b="0" lang="pl-PL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32000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statnie perturbacje na rynku finansowym spowodowały wzrost popytu na produkty redukujące ryzyko straty oraz oferujące jednocześnie dużą szansę wzbogaceni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6666"/>
                </a:solidFill>
                <a:latin typeface="Arial"/>
              </a:rPr>
              <a:t>Nazewnictwo</a:t>
            </a:r>
            <a:br>
              <a:rPr sz="3600"/>
            </a:br>
            <a:r>
              <a:rPr b="0" lang="pl-PL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potykane na rynkach całego Świata oraz opracowaniach akademickich nazwy opcji 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StrikeRese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191120"/>
            <a:ext cx="2835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StrikeRe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Cliqu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Ratch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Re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6666"/>
                </a:solidFill>
                <a:latin typeface="Arial"/>
              </a:rPr>
              <a:t>Historia</a:t>
            </a:r>
            <a:br>
              <a:rPr sz="3600"/>
            </a:br>
            <a:r>
              <a:rPr b="0" lang="pl-PL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ierwsza opcja typu 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StrikeReset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 stała się dostępna dla potencjalnych nabywców w 1996 roku w Chicago Board of Options Exchange – była ona opcją na indeks 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S&amp;P 500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hicago Board of Option Exchange była pierwszym w USA rynkiem opcji. Powstała w 1973 roku – tym samym w którym 17 października reprezentacja Polski zremisowała z Anglią na Wembley - 1:1 (0: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Lokalizacja </a:t>
            </a:r>
            <a:br>
              <a:rPr sz="3600"/>
            </a:b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hicago Board Options Excha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2362320"/>
          <a:ext cx="693432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93432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S&amp;P 500</a:t>
            </a:r>
            <a:br>
              <a:rPr sz="3600"/>
            </a:br>
            <a:r>
              <a:rPr b="1" lang="pl-PL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S&amp;P 500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 jest indeksem w skład którego wchodzi 500 firm o największej kapitalizacji, notowanych na 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New York Stock Exchange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Nasdaq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, są to głównie firmy amerykański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&amp;P 500 wchodzi w skład szerszego indeksu - S&amp;P 1500 oraz S&amp;P Global 1200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Ogólna ide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pcja 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StrikeReset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 pozwala zmienić początkowy strike na cenę aktywa bazowego </a:t>
            </a:r>
            <a:br>
              <a:rPr sz="2800"/>
            </a:b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z góry zadanej chwili 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t 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t&lt;T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, jeśli tylko będzie to korzystniejsze dla posiadacza opcj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pcja 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StrikeReset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 ma następującą funkcję wypłat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all = max(S</a:t>
            </a:r>
            <a:r>
              <a:rPr b="0" lang="en-US" sz="2800" spc="-1" strike="noStrike" baseline="-30000">
                <a:solidFill>
                  <a:srgbClr val="003366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- min(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</a:t>
            </a:r>
            <a:r>
              <a:rPr b="0" lang="en-US" sz="2800" spc="-1" strike="noStrike" baseline="-30000">
                <a:solidFill>
                  <a:srgbClr val="003366"/>
                </a:solidFill>
                <a:latin typeface="Arial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,K) ,0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ut = max(max(S</a:t>
            </a:r>
            <a:r>
              <a:rPr b="0" lang="en-US" sz="2800" spc="-1" strike="noStrike" baseline="-30000">
                <a:solidFill>
                  <a:srgbClr val="003366"/>
                </a:solidFill>
                <a:latin typeface="Arial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,K)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 baseline="-30000">
                <a:solidFill>
                  <a:srgbClr val="003366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,0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Wymowne wykresy dla </a:t>
            </a:r>
            <a:br>
              <a:rPr sz="3600"/>
            </a:b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opcji call </a:t>
            </a:r>
            <a:r>
              <a:rPr b="1" i="1" lang="pl-PL" sz="3600" spc="-1" strike="noStrike">
                <a:solidFill>
                  <a:srgbClr val="006666"/>
                </a:solidFill>
                <a:latin typeface="Arial"/>
              </a:rPr>
              <a:t>StrikeRes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54600" y="3809880"/>
            <a:ext cx="4289400" cy="2859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42894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Nasza wycena drzewem dwumianowy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Na drodze własnych rozważań dotarliśmy do nasępującego wzoru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5445000"/>
            <a:ext cx="74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458136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Gdzie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jest krokiem w którym następuje reset strike’a, natomiast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ki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jest nowym strike’iem odpowiadającym cenie akcji ustalonej przy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krotnym jej zwiekszeniu i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(m-i)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krotnym zmniejszeni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77090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2:33Z</dcterms:created>
  <dc:creator>Mateusz Zakrzewski</dc:creator>
  <dc:description/>
  <dc:language>en-US</dc:language>
  <cp:lastModifiedBy>wms</cp:lastModifiedBy>
  <dcterms:modified xsi:type="dcterms:W3CDTF">2008-06-05T12:23:10Z</dcterms:modified>
  <cp:revision>8</cp:revision>
  <dc:subject/>
  <dc:title>StrikeReset Option</dc:title>
</cp:coreProperties>
</file>